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B6B-CA90-4A3D-A5F2-21A4F75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D49-5141-4BBF-BB2F-35F5F6A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2A7-3353-4ACC-9208-AEF76F27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322-C055-4060-9C9F-2C5EF792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666-1CEA-4C41-ACA5-003F525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918-357C-4D2D-A722-EDFB9D5E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2BA8-08EC-4903-862B-8C2C305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37DE-DD63-4A51-ABD1-31FAF921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85F-C2E8-47F3-B700-C7E0063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09C7-31EC-42A7-AC0B-B79D048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84E8-D0A4-4C82-B577-8DC525B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C3C-5B7D-4581-80F8-CBA38059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E846-5EF5-458A-BDC6-13BB98BA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0AE0-0F74-4F24-8408-DF5A412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15B-CD12-4E3D-84F7-F03FE085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BF57-E139-4E7D-B3B9-642F807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3D98-AC38-4B67-8C25-00293C01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384-1133-4D58-8A8A-7F9DA8E5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D13-BA14-40E1-9CAA-61A9EE0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539-4260-4BC8-B625-F3441AEC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30D-F53A-48A4-8202-7B1B5BC1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2C2-353B-41E5-9035-4766097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8D9-1942-4487-AE56-A9E93B4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6CC-27CA-4AE2-84F9-5F4DB01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016-F099-465E-9E36-75D29D9024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FFF5-E34D-4217-A9EC-B0833CE6C6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EQUILIBRIUM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: A strong acid ionizes completely and a strong base ionizes or dissociates complet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strong acids: HClO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HI, HBr, HCl, H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HN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 Acids: all the other acids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strong bases: hydroxides of alkali metals and alkaline Earth metals: KOH, NaOH, Ba(OH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Mg(OH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Weak Bases: The nitrogen family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,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c bases containing Nitro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1F7-2354-4AA6-B62F-834F4001E7EB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Experimental Determination of K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gree of ioniz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weak electrolyte is the fraction of molecules that react with water to give 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354480"/>
            <a:ext cx="8077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ical conductivity can be measured to determine the degree of io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00600"/>
            <a:ext cx="8153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ith weak acids, the pH can be used to determine the equilibrium composition of ions in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1AD-7316-4EC5-BAAE-5A916BC43983}" type="slidenum">
              <a:t>10</a:t>
            </a:fld>
          </a:p>
        </p:txBody>
      </p:sp>
    </p:spTree>
  </p:cSld>
  <p:transition spd="med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040280"/>
            <a:ext cx="8077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is important to realize that the solution was made 0.012 M in nicotinic acid, however, some molecules ionize making the equilibrium concentration of nicotinic acid less than 0.012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640480"/>
            <a:ext cx="8077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will abbreviate the formula for nicotinic acid as HN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4B0-8232-47B4-A7D3-FD1013DFEC6A}" type="slidenum">
              <a:t>11</a:t>
            </a:fld>
          </a:p>
        </p:txBody>
      </p:sp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5029200"/>
          <a:ext cx="8458200" cy="12333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219320"/>
                <a:gridCol w="838080"/>
                <a:gridCol w="1524240"/>
                <a:gridCol w="152388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12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33520" y="3981600"/>
            <a:ext cx="8076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Let x be the moles per liter of product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979640" y="4419720"/>
                <a:ext cx="7012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Ni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  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c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4882680" y="4610160"/>
            <a:ext cx="756000" cy="128520"/>
            <a:chOff x="4882680" y="4610160"/>
            <a:chExt cx="756000" cy="128520"/>
          </a:xfrm>
        </p:grpSpPr>
        <p:sp>
          <p:nvSpPr>
            <p:cNvPr id="150" name=""/>
            <p:cNvSpPr/>
            <p:nvPr/>
          </p:nvSpPr>
          <p:spPr>
            <a:xfrm>
              <a:off x="4883040" y="461016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82680" y="47386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5E0-9E01-461C-B391-09A587A21A54}" type="slidenum">
              <a:t>12</a:t>
            </a:fld>
          </a:p>
        </p:txBody>
      </p:sp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343400"/>
            <a:ext cx="80769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ilibrium-constant express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0200" y="5029200"/>
                <a:ext cx="35974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Nic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22D-0E9D-41A2-ABCA-4B69B5A420E5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14800"/>
            <a:ext cx="80773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bstituting the expressions for the equilibrium concentrations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800440" y="4952880"/>
                <a:ext cx="2995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CD6-4A4E-48EB-99BF-EF9487671EFA}" type="slidenum">
              <a:t>14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87640"/>
            <a:ext cx="80773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e can obtain th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of x from the given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05120" y="4624560"/>
                <a:ext cx="5064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ti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9800" y="5392800"/>
                <a:ext cx="3424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ti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1880" y="5996160"/>
                <a:ext cx="4270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B05-9DAC-49EA-84C4-FF40421E8758}" type="slidenum">
              <a:t>15</a:t>
            </a:fld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67120"/>
            <a:ext cx="8534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bstitute this value of x in our equilibrium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66640" y="4343400"/>
            <a:ext cx="8577360" cy="4265280"/>
            <a:chOff x="566640" y="4343400"/>
            <a:chExt cx="8577360" cy="4265280"/>
          </a:xfrm>
        </p:grpSpPr>
        <p:sp>
          <p:nvSpPr>
            <p:cNvPr id="170" name=""/>
            <p:cNvSpPr/>
            <p:nvPr/>
          </p:nvSpPr>
          <p:spPr>
            <a:xfrm>
              <a:off x="609480" y="4343400"/>
              <a:ext cx="8534520" cy="42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Note first, however, th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66640" y="4975560"/>
                  <a:ext cx="786132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2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2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4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159</m:t>
                      </m:r>
                      <m:r>
                        <m:t xml:space="preserve">≃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609480" y="5334120"/>
            <a:ext cx="8534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concentration of unionized acid remains virtually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unchanged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81E-1CF3-40F3-8ABF-E0D1FF581153}" type="slidenum">
              <a:t>16</a:t>
            </a:fld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19256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bstitute this value of x in our equilibrium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71560" y="4913280"/>
                <a:ext cx="75103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4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E7B-1487-4FF0-9FB3-BECE2E599009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411624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obtain the degree of dissoc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30360" y="4533840"/>
                <a:ext cx="76327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ree  of dissociatio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4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609480" y="563868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ercent ionization is obtained by multiplying by 100, which gives 3.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3A6-F007-41E6-ACCB-9077A9A2AD4E}" type="slidenum">
              <a:t>18</a:t>
            </a:fld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ce you know the value of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ou can calculate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quilibrium concentrations of species HA, A-, and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solutions of different molar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9256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neral method for doing this was discussed in Chapter 7 (ICE 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A69-D048-4FB6-8B07-F3E3E7185249}" type="slidenum">
              <a:t>19</a:t>
            </a:fld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Predict the direction of an Acid-base reaction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he acid to the conjugate acid strength.  The direction favoured is the one that has the stronger acid as react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  +   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      +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Water is the acid on the left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is the conjugate acid on the right, we need to check which one is stronger…. Go to page 747 to check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is stronger so the reverse reaction is favou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FBC-5C18-42E0-A498-7A6EB26B331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e that in our previous example, the degree of dissociation was so small tha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x” was negligible compared to the concentration of nicotinic acid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1258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is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mall value of the degree of ionization that allowed us to ignore the subtracted x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n the denominator of our equilibrium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gree of ionization of a weak acid depends on both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nd the concentration of the acid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173-828E-4F56-BD77-D1038BF8ADAD}" type="slidenum">
              <a:t>20</a:t>
            </a:fld>
          </a:p>
        </p:txBody>
      </p:sp>
    </p:spTree>
  </p:cSld>
  <p:transition spd="med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you know when you can use this simplifying assump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952880"/>
            <a:ext cx="76201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this simplifying assumption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ignoring the subtracted x gives an </a:t>
            </a:r>
            <a:r>
              <a:rPr b="1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acceptabl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error of less than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520" y="2362320"/>
            <a:ext cx="7769160" cy="4113000"/>
            <a:chOff x="533520" y="2362320"/>
            <a:chExt cx="7769160" cy="4113000"/>
          </a:xfrm>
        </p:grpSpPr>
        <p:sp>
          <p:nvSpPr>
            <p:cNvPr id="192" name=""/>
            <p:cNvSpPr/>
            <p:nvPr/>
          </p:nvSpPr>
          <p:spPr>
            <a:xfrm>
              <a:off x="533520" y="2362320"/>
              <a:ext cx="77691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t can be shown that if the acid concentration, C</a:t>
              </a:r>
              <a:r>
                <a:rPr b="0" lang="en-US" sz="2400" spc="-1" strike="noStrike" baseline="-25000">
                  <a:solidFill>
                    <a:srgbClr val="376bb4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, divided by the K</a:t>
              </a:r>
              <a:r>
                <a:rPr b="0" lang="en-US" sz="2400" spc="-1" strike="noStrike" baseline="-25000">
                  <a:solidFill>
                    <a:srgbClr val="376bb4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exceeds 1000, that i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387680" y="3927240"/>
                  <a:ext cx="87120" cy="3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A09-97B7-476C-9577-4D4E8C9A7598}" type="slidenum">
              <a:t>21</a:t>
            </a:fld>
          </a:p>
        </p:txBody>
      </p:sp>
    </p:spTree>
  </p:cSld>
  <p:transition spd="med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you know when you can use this simplifying assump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2096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f the simplifying assumptio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is not valid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you can solve the equilibrium equation exactly by using 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dratic equatio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344840"/>
            <a:ext cx="76201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next example illustrates this with a solution of aspirin (acetylsalicylic acid), H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a common headache reme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D36-CFEB-4E1E-851D-A8431A593A90}" type="slidenum">
              <a:t>22</a:t>
            </a:fld>
          </a:p>
        </p:txBody>
      </p:sp>
    </p:spTree>
  </p:cSld>
  <p:transition spd="med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6576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molar mass of H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180.2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41792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rom this we find that the sample contained 0.00180 mol of the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895-1A42-4213-9A90-39EAAF42AFE5}" type="slidenum">
              <a:t>23</a:t>
            </a:fld>
          </a:p>
        </p:txBody>
      </p:sp>
    </p:spTree>
  </p:cSld>
  <p:transition spd="med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26708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Hence, the concentration of the acetylsalicylic acid is  0.00180 mol/0.500 L = </a:t>
            </a:r>
            <a:r>
              <a:rPr b="1" lang="en-US" sz="2000" spc="-1" strike="noStrike">
                <a:solidFill>
                  <a:srgbClr val="376bb4"/>
                </a:solidFill>
                <a:latin typeface="Arial"/>
              </a:rPr>
              <a:t>0.0036 M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 (Retain two significant figures, the same number of significant figures in K</a:t>
            </a:r>
            <a:r>
              <a:rPr b="0" lang="en-US" sz="20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659040"/>
            <a:ext cx="7769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molar mass of H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180.2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D2D-9031-4A7C-B331-F8B717619E99}" type="slidenum">
              <a:t>24</a:t>
            </a:fld>
          </a:p>
        </p:txBody>
      </p:sp>
    </p:spTree>
  </p:cSld>
  <p:transition spd="med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334120"/>
            <a:ext cx="82296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ich is less than 1000, s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e must solve the equilibrium equation exactly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54360" y="4210200"/>
                <a:ext cx="5384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6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E33-915D-48AB-91BC-B95440529684}" type="slidenum">
              <a:t>25</a:t>
            </a:fld>
          </a:p>
        </p:txBody>
      </p:sp>
    </p:spTree>
  </p:cSld>
  <p:transition spd="med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will abbreviate the formula for acetylsalicylic acid a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HA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nd let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be the amount of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formed per l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87836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amount of acetylsalicylate ion is als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ol; the amount of nonionized acetylsalicylic acid is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0.0036-x) mo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3DC-37E0-4C7D-9B50-42A0635858DE}" type="slidenum">
              <a:t>26</a:t>
            </a:fld>
          </a:p>
        </p:txBody>
      </p:sp>
    </p:spTree>
  </p:cSld>
  <p:transition spd="med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013360"/>
          <a:ext cx="8458200" cy="12333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219320"/>
                <a:gridCol w="838080"/>
                <a:gridCol w="1524240"/>
                <a:gridCol w="152388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36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933560" y="4173480"/>
                <a:ext cx="7104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c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  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"/>
          <p:cNvGrpSpPr/>
          <p:nvPr/>
        </p:nvGrpSpPr>
        <p:grpSpPr>
          <a:xfrm>
            <a:off x="4882680" y="4349880"/>
            <a:ext cx="756000" cy="128520"/>
            <a:chOff x="4882680" y="4349880"/>
            <a:chExt cx="756000" cy="128520"/>
          </a:xfrm>
        </p:grpSpPr>
        <p:sp>
          <p:nvSpPr>
            <p:cNvPr id="220" name=""/>
            <p:cNvSpPr/>
            <p:nvPr/>
          </p:nvSpPr>
          <p:spPr>
            <a:xfrm>
              <a:off x="4883040" y="43498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82680" y="447840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7240" y="3657600"/>
            <a:ext cx="77695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se data are summarized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815-061E-44C8-8EB0-E11324D7BDFA}" type="slidenum">
              <a:t>27</a:t>
            </a:fld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ilibrium constant express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63720" y="4343400"/>
                <a:ext cx="36180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c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559-5F33-4C73-A97B-9D4442BAAD33}" type="slidenum">
              <a:t>28</a:t>
            </a:fld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substitute the equilibrium concentrations and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nto the equilibrium constant expression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03360" y="4800600"/>
                <a:ext cx="4321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DDE-D30F-4C80-8EFD-02BD6C76FC4C}" type="slidenum">
              <a:t>29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olutions of a Weak Acid or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plest acid-base equilibria are those in which a single acid or base solute reacts with wa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0481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this chapter, we will first look at solutions of weak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cid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Section 8.2) and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ases (8.3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2116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e must also consider solutions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salt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which can have acidic or basic properties as a result of the reactions of their ions with water. ( 8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809-96AD-4344-B332-8A1F772D9E8A}" type="slidenum">
              <a:t>3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9480" y="4040280"/>
            <a:ext cx="7769520" cy="4113000"/>
            <a:chOff x="609480" y="4040280"/>
            <a:chExt cx="7769520" cy="4113000"/>
          </a:xfrm>
        </p:grpSpPr>
        <p:sp>
          <p:nvSpPr>
            <p:cNvPr id="234" name=""/>
            <p:cNvSpPr/>
            <p:nvPr/>
          </p:nvSpPr>
          <p:spPr>
            <a:xfrm>
              <a:off x="609480" y="404028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Rearranging the preceding equation to put it in the form ax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+ bx + c = 0, we 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600200" y="5600520"/>
                  <a:ext cx="61754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609480" y="36576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can solve this equation exactly by using the quadratic formu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908-6755-4157-B363-403D1540A8C3}" type="slidenum">
              <a:t>30</a:t>
            </a:fld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w substitute into the quadratic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490840" y="4343400"/>
                <a:ext cx="30718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5BC-C573-46C2-B1DD-C7F4FBE6E4B6}" type="slidenum">
              <a:t>31</a:t>
            </a:fld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w substitute into the quadratic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85800" y="4419720"/>
                <a:ext cx="7553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609480" y="54864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lower sign in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  <a:ea typeface="Times New Roman"/>
              </a:rPr>
              <a:t>± gives a negative root which we can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0F3-631A-4F66-88F3-676D56EC7022}" type="slidenum">
              <a:t>32</a:t>
            </a:fld>
          </a:p>
        </p:txBody>
      </p:sp>
    </p:spTree>
  </p:cSld>
  <p:transition spd="med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aking the upper sign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533680" y="4267080"/>
                <a:ext cx="4095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609480" y="5030640"/>
            <a:ext cx="7769520" cy="4113360"/>
            <a:chOff x="609480" y="5030640"/>
            <a:chExt cx="7769520" cy="4113360"/>
          </a:xfrm>
        </p:grpSpPr>
        <p:sp>
          <p:nvSpPr>
            <p:cNvPr id="251" name=""/>
            <p:cNvSpPr/>
            <p:nvPr/>
          </p:nvSpPr>
          <p:spPr>
            <a:xfrm>
              <a:off x="609480" y="5030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Now we can calculate the p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009880" y="5599080"/>
                  <a:ext cx="5106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2A6-2905-4716-9032-A60C7FF6C8B6}" type="slidenum">
              <a:t>33</a:t>
            </a:fld>
          </a:p>
        </p:txBody>
      </p:sp>
    </p:spTree>
  </p:cSld>
  <p:transition spd="med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7368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proton is lost completely followed by a weak ionization of the hydrogen sulfate ion, HS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380988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lfuric acid, for example, can lose two protons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05040" y="4572000"/>
                <a:ext cx="7705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4960" y="5183280"/>
                <a:ext cx="7926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4273200" y="5429160"/>
            <a:ext cx="756000" cy="128520"/>
            <a:chOff x="4273200" y="5429160"/>
            <a:chExt cx="756000" cy="128520"/>
          </a:xfrm>
        </p:grpSpPr>
        <p:sp>
          <p:nvSpPr>
            <p:cNvPr id="260" name=""/>
            <p:cNvSpPr/>
            <p:nvPr/>
          </p:nvSpPr>
          <p:spPr>
            <a:xfrm>
              <a:off x="4273560" y="542916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273200" y="55576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291-B986-419A-9547-7AC32190CC32}" type="slidenum">
              <a:t>34</a:t>
            </a:fld>
          </a:p>
        </p:txBody>
      </p:sp>
    </p:spTree>
  </p:cSld>
  <p:transition spd="med"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876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or a weak diprotic acid like carbonic acid,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two simultaneous equilibria must be consid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9800" y="4879800"/>
            <a:ext cx="8251920" cy="1368720"/>
            <a:chOff x="739800" y="4879800"/>
            <a:chExt cx="8251920" cy="1368720"/>
          </a:xfrm>
        </p:grpSpPr>
        <p:grpSp>
          <p:nvGrpSpPr>
            <p:cNvPr id="265" name=""/>
            <p:cNvGrpSpPr/>
            <p:nvPr/>
          </p:nvGrpSpPr>
          <p:grpSpPr>
            <a:xfrm>
              <a:off x="739800" y="4879800"/>
              <a:ext cx="8251920" cy="1368720"/>
              <a:chOff x="739800" y="4879800"/>
              <a:chExt cx="8251920" cy="1368720"/>
            </a:xfrm>
          </p:grpSpPr>
          <mc:AlternateContent>
            <mc:Choice xmlns:a14="http://schemas.microsoft.com/office/drawing/2010/main" Requires="a14">
              <p:sp>
                <p:nvSpPr>
                  <p:cNvPr id="266" name=""/>
                  <p:cNvSpPr txBox="1"/>
                  <p:nvPr/>
                </p:nvSpPr>
                <p:spPr>
                  <a:xfrm>
                    <a:off x="901800" y="4879800"/>
                    <a:ext cx="8089920" cy="52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7" name=""/>
                  <p:cNvSpPr txBox="1"/>
                  <p:nvPr/>
                </p:nvSpPr>
                <p:spPr>
                  <a:xfrm>
                    <a:off x="739800" y="5713560"/>
                    <a:ext cx="8058240" cy="53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68" name=""/>
            <p:cNvGrpSpPr/>
            <p:nvPr/>
          </p:nvGrpSpPr>
          <p:grpSpPr>
            <a:xfrm>
              <a:off x="4266720" y="5967360"/>
              <a:ext cx="756000" cy="128520"/>
              <a:chOff x="4266720" y="5967360"/>
              <a:chExt cx="756000" cy="128520"/>
            </a:xfrm>
          </p:grpSpPr>
          <p:sp>
            <p:nvSpPr>
              <p:cNvPr id="269" name=""/>
              <p:cNvSpPr/>
              <p:nvPr/>
            </p:nvSpPr>
            <p:spPr>
              <a:xfrm>
                <a:off x="4267080" y="596736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266720" y="609588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349520" y="5105520"/>
              <a:ext cx="756000" cy="128520"/>
              <a:chOff x="4349520" y="5105520"/>
              <a:chExt cx="756000" cy="128520"/>
            </a:xfrm>
          </p:grpSpPr>
          <p:sp>
            <p:nvSpPr>
              <p:cNvPr id="272" name=""/>
              <p:cNvSpPr/>
              <p:nvPr/>
            </p:nvSpPr>
            <p:spPr>
              <a:xfrm>
                <a:off x="4349880" y="510552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4349520" y="523404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2E9-C27E-4F26-BA16-FC0A5B4244EA}" type="slidenum">
              <a:t>35</a:t>
            </a:fld>
          </a:p>
        </p:txBody>
      </p:sp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38289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equilibrium has an associated acid-ionization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04880" y="4649760"/>
            <a:ext cx="7769160" cy="4113360"/>
            <a:chOff x="704880" y="4649760"/>
            <a:chExt cx="7769160" cy="4113360"/>
          </a:xfrm>
        </p:grpSpPr>
        <p:sp>
          <p:nvSpPr>
            <p:cNvPr id="278" name=""/>
            <p:cNvSpPr/>
            <p:nvPr/>
          </p:nvSpPr>
          <p:spPr>
            <a:xfrm>
              <a:off x="704880" y="4649760"/>
              <a:ext cx="776916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3" marL="1600200" indent="-228600">
                <a:lnSpc>
                  <a:spcPct val="100000"/>
                </a:lnSpc>
                <a:spcBef>
                  <a:spcPts val="49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6bb4"/>
                  </a:solidFill>
                  <a:latin typeface="Arial"/>
                </a:rPr>
                <a:t>For the loss of the </a:t>
              </a:r>
              <a:r>
                <a:rPr b="1" lang="en-US" sz="2000" spc="-1" strike="noStrike">
                  <a:solidFill>
                    <a:srgbClr val="376bb4"/>
                  </a:solidFill>
                  <a:latin typeface="Arial"/>
                </a:rPr>
                <a:t>first</a:t>
              </a:r>
              <a:r>
                <a:rPr b="0" lang="en-US" sz="2000" spc="-1" strike="noStrike">
                  <a:solidFill>
                    <a:srgbClr val="376bb4"/>
                  </a:solidFill>
                  <a:latin typeface="Arial"/>
                </a:rPr>
                <a:t> pro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685880" y="5340600"/>
                  <a:ext cx="550800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O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CO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482-AA09-4EF5-89E6-BBDAC2A68F7B}" type="slidenum">
              <a:t>36</a:t>
            </a:fld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383076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equilibrium has an associated acid-ionization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46497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cbd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For the loss of the </a:t>
            </a:r>
            <a:r>
              <a:rPr b="1" lang="en-US" sz="2000" spc="-1" strike="noStrike">
                <a:solidFill>
                  <a:srgbClr val="376bb4"/>
                </a:solidFill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52560" y="5295960"/>
                <a:ext cx="5443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276-89EE-467A-860B-88F58CBFDD50}" type="slidenum">
              <a:t>37</a:t>
            </a:fld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51069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the case of a triprotic acid, such as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the third ionization constant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s smaller than the second one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9639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general, the second ionization constant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for a polyprotic acid is smaller than the first ionization constant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1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A25-893F-4ADD-95A2-97CCC1228AE1}" type="slidenum">
              <a:t>38</a:t>
            </a:fld>
          </a:p>
        </p:txBody>
      </p:sp>
    </p:spTree>
  </p:cSld>
  <p:transition spd="med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41911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owever, reasonable assumptions can be made that simplify these calculations.  Worry about First Ionization on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nd of 8.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97180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several equilibria occur at once, it might appear complicated to calculate equilibrium com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D85-27DC-4EF0-99CB-81E76D905FBD}" type="slidenum">
              <a:t>39</a:t>
            </a:fld>
          </a:p>
        </p:txBody>
      </p:sp>
    </p:spTree>
  </p:cSld>
  <p:transition spd="med"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cid ioniz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or acid dissociation) is the reaction of an acid with water to produce hydronium ion (hydrogen ion) and the conjugate base an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055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Because acetic acid is a weak electrolyte, it ionizes to a small extent in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5800" y="3429000"/>
            <a:ext cx="9050040" cy="4113360"/>
            <a:chOff x="685800" y="3429000"/>
            <a:chExt cx="9050040" cy="411336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190120" y="4411800"/>
                  <a:ext cx="45457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5" name=""/>
            <p:cNvGrpSpPr/>
            <p:nvPr/>
          </p:nvGrpSpPr>
          <p:grpSpPr>
            <a:xfrm>
              <a:off x="685800" y="3429000"/>
              <a:ext cx="8533800" cy="4113360"/>
              <a:chOff x="685800" y="3429000"/>
              <a:chExt cx="8533800" cy="411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85800" y="3429000"/>
                <a:ext cx="8533800" cy="4113360"/>
                <a:chOff x="685800" y="3429000"/>
                <a:chExt cx="8533800" cy="41133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63360" y="3429000"/>
                  <a:ext cx="8256240" cy="41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649"/>
                    </a:spcBef>
                    <a:buClr>
                      <a:srgbClr val="cbd990"/>
                    </a:buClr>
                    <a:buFont typeface="Arial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376bb4"/>
                      </a:solidFill>
                      <a:latin typeface="Arial"/>
                    </a:rPr>
                    <a:t>When acetic acid is added to water it reacts as follows.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8" name=""/>
                    <p:cNvSpPr txBox="1"/>
                    <p:nvPr/>
                  </p:nvSpPr>
                  <p:spPr>
                    <a:xfrm>
                      <a:off x="685800" y="4483080"/>
                      <a:ext cx="4774320" cy="424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09" name=""/>
              <p:cNvGrpSpPr/>
              <p:nvPr/>
            </p:nvGrpSpPr>
            <p:grpSpPr>
              <a:xfrm>
                <a:off x="4360680" y="4646880"/>
                <a:ext cx="730800" cy="136440"/>
                <a:chOff x="4360680" y="4646880"/>
                <a:chExt cx="730800" cy="1364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60680" y="4646880"/>
                  <a:ext cx="73080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4360680" y="4783320"/>
                  <a:ext cx="73080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83B-34AE-4F24-9C44-15AD2E1B54DB}" type="slidenum">
              <a:t>4</a:t>
            </a:fld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8480" y="3962520"/>
            <a:ext cx="8615520" cy="4113000"/>
            <a:chOff x="528480" y="3962520"/>
            <a:chExt cx="8615520" cy="4113000"/>
          </a:xfrm>
        </p:grpSpPr>
        <p:sp>
          <p:nvSpPr>
            <p:cNvPr id="115" name=""/>
            <p:cNvSpPr/>
            <p:nvPr/>
          </p:nvSpPr>
          <p:spPr>
            <a:xfrm>
              <a:off x="609480" y="3962520"/>
              <a:ext cx="8534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76bb4"/>
                  </a:solidFill>
                  <a:latin typeface="Arial"/>
                </a:rPr>
                <a:t>Consider the generic monoprotic acid, H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528480" y="4741920"/>
                  <a:ext cx="7980480" cy="59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       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3962160" y="5425920"/>
            <a:ext cx="756000" cy="136800"/>
            <a:chOff x="3962160" y="5425920"/>
            <a:chExt cx="756000" cy="136800"/>
          </a:xfrm>
        </p:grpSpPr>
        <p:sp>
          <p:nvSpPr>
            <p:cNvPr id="118" name=""/>
            <p:cNvSpPr/>
            <p:nvPr/>
          </p:nvSpPr>
          <p:spPr>
            <a:xfrm>
              <a:off x="3962520" y="54259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62160" y="55627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43000" y="3429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5E8-2975-4A24-8FD8-E91E633B9F25}" type="slidenum">
              <a:t>5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42116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The corresponding equilibrium expression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970520"/>
                <a:ext cx="327024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38B-8B0A-41A1-83BD-102FEF316449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34484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ince the concentration of water remains relatively constant, we rearrange the equation to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79680" y="5141880"/>
                <a:ext cx="54306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]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018-3B1A-4DE4-8661-8DCCA0D8C596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34484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us,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, the acid-ionization constant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the constant [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]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49600" y="5218200"/>
                <a:ext cx="3290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496-D36A-4B04-8F76-03134F4A5447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344840"/>
            <a:ext cx="79250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able on page 747 lists acid-ionization constants for various weak acids at 25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D58-91FB-462E-8791-3F098D274F4C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7:44:10Z</dcterms:modified>
  <cp:revision>194</cp:revision>
  <dc:subject>Chapter 17</dc:subject>
  <dc:title>Acid-Base Equilibria</dc:title>
</cp:coreProperties>
</file>